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F59-E37D-4A42-82B2-7B4EBF09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DCE-A7CD-49AF-B0F6-9655B49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52E-5BF1-4127-9AE2-AECB9B1A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732-A9E2-460B-8B41-E421283C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DCB7-D639-46F8-ACFE-BF8B4419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AA4-3E2E-4167-B465-9C5E09C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2E1-439D-4007-845C-BED948F5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66BF-1FCE-46F0-9BD4-429BF89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B3AE-E138-47FD-AC1A-F8CCEA3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C054-2075-431A-A569-3C4B53A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ABF-873A-4DEA-A08C-A4DB2C6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39A-8C50-4CA4-BEB3-47ECCE3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DB19-DF83-4218-BA05-D4D9DC4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EB74-C015-4156-9E6A-C99C9CE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8257-66FF-4D01-A762-C95DB605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2BE-C66C-4E3B-8DC0-C9FD4378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9F5-70AE-4D46-A24D-BA2CBE82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B47-F757-4A2B-A5FF-35284E3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E40-BAE8-45D1-86CB-8BD183F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8C0-BDBB-4A54-8318-B9825C69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C5B-D3D0-4916-AACA-89C7FCD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3A6-EF4E-46BD-98E6-701D487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99F-9C0C-4E2B-8606-24A2F2F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3B3-DDD0-4072-9375-28B1DC5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E27-307C-40FE-B8E6-86EF50C45A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298-828F-41BE-821F-902C419807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__ Clase 6NH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7 de noviembre del 201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Verdana"/>
              </a:rPr>
              <a:t>Propósito # 17: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Cómo se clasifican las palabras según su acent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ivide y clasifica según el número de silabas y encierra la silaba que tiene el acent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lore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uchar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br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Velad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Gor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nza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99"/>
                </a:solidFill>
                <a:latin typeface="Garamond"/>
              </a:rPr>
              <a:t>¿Cuáles son los dos tipos de acentos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ento ortográfic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239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Se puede ver y oír. Es la til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6878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ento auditiv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267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Solo se puede oí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849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6699"/>
                </a:solidFill>
                <a:latin typeface="Verdana"/>
              </a:rPr>
              <a:t>Oración</a:t>
            </a:r>
            <a:r>
              <a:rPr b="0" i="1" lang="es-ES_tradnl" sz="32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04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983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6699"/>
                </a:solidFill>
                <a:latin typeface="Verdana"/>
              </a:rPr>
              <a:t>Inteligente </a:t>
            </a:r>
            <a:r>
              <a:rPr b="0" i="1" lang="es-ES_tradnl" sz="32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5029200"/>
            <a:ext cx="762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Clasificación según el acento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s palabras según su acento se clasifican 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g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raves o Lla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drúj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obresdrúj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Palabras Aguda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palabras aguda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levan acento en la última silab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75480" y="345924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Ma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m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2360" y="3429000"/>
            <a:ext cx="12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Ma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87320" y="3429000"/>
            <a:ext cx="12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Re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l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56920" y="464832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Pa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58480" y="4648320"/>
            <a:ext cx="21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Pro-fe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Palabras Graves o Llana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palabras graves o llanas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  llevan el acento en la penúltima silab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298880" y="34592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Con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69280" y="342900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Me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68240" y="3429000"/>
            <a:ext cx="13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á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p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0640" y="46483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Ár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5320" y="464832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Si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0240" y="4648320"/>
            <a:ext cx="16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Puer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Palabras Esdrújula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palabras esdrújulas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 llevan el acento en la antepenúltima silab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324080" y="3459240"/>
            <a:ext cx="19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Ár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bo-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00600" y="34290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Úl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ti-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04960" y="342900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Trá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fi-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87720" y="464832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Lá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pi-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2800" y="46483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Ce-</a:t>
            </a:r>
            <a:r>
              <a:rPr b="1" lang="es-ES_tradnl" sz="3200" spc="-1" strike="noStrike">
                <a:solidFill>
                  <a:srgbClr val="ff99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á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mi-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Palabras Sobresdrújula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palabras sobresdrújulas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 llevan el acento en la tras-antepenúltima silaba, es decir en la cuarta o quinta silaba empezando por el fi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357560" y="399240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í</a:t>
            </a:r>
            <a:r>
              <a:rPr b="0" lang="es-ES_tradnl" sz="3200" spc="-1" strike="noStrike">
                <a:solidFill>
                  <a:srgbClr val="ff9900"/>
                </a:solidFill>
                <a:latin typeface="Verdana"/>
              </a:rPr>
              <a:t>-ga-me-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66920" y="396252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Cuén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ta-me-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53320" y="5181480"/>
            <a:ext cx="37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Des-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cuél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-ga-me-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Garamond"/>
              </a:rPr>
              <a:t>NOT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BRESDRUJULAS Y ESDRUJULAS 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SIEMPRE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TIENEN ACENTO ORTOGRAFICO (TIL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* Recuerda S </a:t>
            </a:r>
            <a:r>
              <a:rPr b="0" lang="es-ES" sz="3200" spc="-1" strike="noStrike">
                <a:solidFill>
                  <a:srgbClr val="666699"/>
                </a:solidFill>
                <a:latin typeface="Verdana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G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|  </a:t>
            </a:r>
            <a:r>
              <a:rPr b="0" lang="es-ES" sz="3200" spc="-1" strike="noStrike">
                <a:solidFill>
                  <a:srgbClr val="666699"/>
                </a:solidFill>
                <a:latin typeface="Verdana"/>
              </a:rPr>
              <a:t>|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|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|  </a:t>
            </a:r>
            <a:r>
              <a:rPr b="0" lang="es-ES" sz="3200" spc="-1" strike="noStrike">
                <a:solidFill>
                  <a:srgbClr val="666699"/>
                </a:solidFill>
                <a:latin typeface="Verdana"/>
              </a:rPr>
              <a:t>|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|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g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|  </a:t>
            </a:r>
            <a:r>
              <a:rPr b="0" lang="es-ES" sz="3200" spc="-1" strike="noStrike">
                <a:solidFill>
                  <a:srgbClr val="666699"/>
                </a:solidFill>
                <a:latin typeface="Verdana"/>
              </a:rPr>
              <a:t>|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Grave o ll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es-ES" sz="3200" spc="-1" strike="noStrike">
                <a:solidFill>
                  <a:srgbClr val="666699"/>
                </a:solidFill>
                <a:latin typeface="Verdana"/>
              </a:rPr>
              <a:t>  Esdrúju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obresdrúj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99"/>
                </a:solidFill>
                <a:latin typeface="Garamond"/>
              </a:rPr>
              <a:t>Practica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vide, encierra la silaba que tiene el acento y clasifica según el ac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ib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Borr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rma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ni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izar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dic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06:22Z</dcterms:created>
  <dc:creator>Helen Zumaeta</dc:creator>
  <dc:description/>
  <dc:language>en-US</dc:language>
  <cp:lastModifiedBy>Helen Zumaeta</cp:lastModifiedBy>
  <dcterms:modified xsi:type="dcterms:W3CDTF">2011-11-07T22:00:14Z</dcterms:modified>
  <cp:revision>9</cp:revision>
  <dc:subject/>
  <dc:title>6 Intermediate-Mid La fecha es el 22 de febrero del 2010</dc:title>
</cp:coreProperties>
</file>